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866-FD3C-4533-9299-C828F30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6BF-E59C-41D0-8EA2-BE672F6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BF2-1007-49E0-9ECB-0F745468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7F7-82F6-440A-9C39-BC56BDD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C1C-3D61-4278-81AE-635353D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313-30F0-4215-A563-D80839E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EFD-F357-4E1E-BD4C-92E98F97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2F1-9952-4333-AD15-3B9866D4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E53-E6DC-42E5-9494-69492D9F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F1A-485A-40C2-B6A5-A7C299E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BB4-2961-46BE-92A5-F9C1128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3F9-B038-407A-98B4-F59CF21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5EE-17E7-4012-85CA-D032B6CD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2" descr=""/>
          <p:cNvPicPr/>
          <p:nvPr/>
        </p:nvPicPr>
        <p:blipFill>
          <a:blip r:embed="rId2"/>
          <a:stretch/>
        </p:blipFill>
        <p:spPr>
          <a:xfrm>
            <a:off x="0" y="0"/>
            <a:ext cx="551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69040" y="701640"/>
            <a:ext cx="56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طْلبوا ملكوتَ اللهِ وبرَّهُ أول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لُ تلك الأشياءِ تُزاد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سألوا يُعطَى لك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طلُبوا تَجِد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قرعوا يُفتَحُ الباب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5:50Z</dcterms:created>
  <dc:creator>USER</dc:creator>
  <dc:description/>
  <dc:language>en-US</dc:language>
  <cp:lastModifiedBy>USER</cp:lastModifiedBy>
  <dcterms:modified xsi:type="dcterms:W3CDTF">2003-01-20T01:09:43Z</dcterms:modified>
  <cp:revision>2</cp:revision>
  <dc:subject/>
  <dc:title>PowerPoint Presentation</dc:title>
</cp:coreProperties>
</file>